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153C-10D4-41BC-AAC6-B68034EBEE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660A-8771-4697-BA89-C295BAEC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1F94-6D69-48BA-B231-53D78E33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02840"/>
            <a:ext cx="264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3B6C-B945-4534-B92B-635FA58164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25F4-F3CF-4A4F-80AE-A3E9DA3C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4512-B323-4B5D-8CC7-A2628222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931FC-CE52-4113-918D-64691BF4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9DD7-4047-4E56-BD72-89E6F8CB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E9AC-7092-4F3E-AD4E-25CDB6D6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C193-02F7-4714-B843-D35527D3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02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C75D-3A9A-49AB-916B-9B1D3065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2840"/>
            <a:ext cx="82249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9831-E727-40BF-8F9A-11F86D17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8128D-C435-4B45-8BAF-7AEFCFFF40CB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Going Green in der Chemieindustrie??</a:t>
            </a:r>
            <a:br>
              <a:rPr sz="3200"/>
            </a:br>
            <a:r>
              <a:rPr b="1" lang="de-DE" sz="2900" spc="-1" strike="noStrike">
                <a:solidFill>
                  <a:srgbClr val="000000"/>
                </a:solidFill>
                <a:latin typeface="Calibri"/>
              </a:rPr>
              <a:t>Was ist eine zukunftsfähige Chemieproduk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of. Dr. Jürgen Rochlit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tglied im Geschäftsführenden Vorstand des Bundesverbands Bürgerinitiativen Umweltschutz e. 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2D819-FFAD-46C3-B422-918FC7A0D0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B2628-999D-4EF2-9093-836384D81E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8C355-3E14-4552-8AEC-6CD75A5529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853BD-9FB5-4BF4-AD69-11EFC0AE53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9B2BA-6595-491D-9F96-E9344203EC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1A7DF-BA87-463F-B3B3-BBC97669B7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5240" y="662040"/>
            <a:ext cx="413352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92520-10C4-4327-8AC6-2E16888F70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AF604-FFA9-4B25-8DD1-F6DCDF3B5A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E2567-D527-4FFA-9EB0-4232099D6F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EB00B-42A7-426D-9D7A-A97C69FF57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9E34C-5491-4FA3-AA88-36CDE44FBB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1FCC0-39BB-4339-8FE0-1B28F17827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ED98A-F00D-4887-BFD2-E55AB64D9C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8020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6335C-3AC0-4116-93B0-E1AF7EBC83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22:13:22Z</dcterms:created>
  <dc:creator>Ulla + Oliver</dc:creator>
  <dc:description/>
  <dc:language>en-US</dc:language>
  <cp:lastModifiedBy>Ulla + Oliver</cp:lastModifiedBy>
  <dcterms:modified xsi:type="dcterms:W3CDTF">2012-11-11T22:22:56Z</dcterms:modified>
  <cp:revision>1</cp:revision>
  <dc:subject/>
  <dc:title>Going Green in der Chemieindustrie?? Was ist eine zukunftsfähige Chemieproduktion?</dc:title>
</cp:coreProperties>
</file>