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8CF54-03C5-42DF-9FA9-F36104C376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002840"/>
            <a:ext cx="82249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F3283-8997-455C-822F-F9EFFE156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002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4002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C27B4-7BF5-4BF8-8F85-05F6E6B0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002840"/>
            <a:ext cx="2648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4002840"/>
            <a:ext cx="2648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4002840"/>
            <a:ext cx="2648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13ED3-637C-4EB8-9F28-E55A96A437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98957-786C-4A78-BBF6-1ADF46F94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C0468-AFB5-4C27-8383-D0EC3DB94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35F47-C500-48C5-9C63-99346AA51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04767-540A-47C1-822E-C6F2863B1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A3529-F7CC-45B5-9D4A-F135B3EB5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002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B16A4-D865-4DD1-A7B5-7F9084EB1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4002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3E293-9D7A-4281-8D8D-830696F52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002840"/>
            <a:ext cx="82249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B0ACA-3D9B-441B-B097-F5F3084C3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3280"/>
            <a:ext cx="21286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2904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613348-D0C4-4C6F-8D5E-7359E6C99D10}" type="slidenum">
              <a:rPr b="0" lang="de-DE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21337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Going Green in der Chemieindustrie??</a:t>
            </a:r>
            <a:br>
              <a:rPr sz="3200"/>
            </a:br>
            <a:r>
              <a:rPr b="1" lang="de-DE" sz="2900" spc="-1" strike="noStrike">
                <a:solidFill>
                  <a:srgbClr val="000000"/>
                </a:solidFill>
                <a:latin typeface="Calibri"/>
              </a:rPr>
              <a:t>Was ist eine zukunftsfähige Chemieproduktion?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Prof. Dr. Jürgen Rochlit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Mitglied im Geschäftsführenden Vorstand des Bundesverbands Bürgerinitiativen Umweltschutz e. V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BC154B-7785-4FE2-BDF9-CADDB23F365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38440" y="0"/>
            <a:ext cx="5667120" cy="80200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ACC2B7-55BD-4166-9949-79DC8187C2D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38440" y="0"/>
            <a:ext cx="5667120" cy="8020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30FEA6-7F72-4423-BED3-DF9AC572A91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738440" y="0"/>
            <a:ext cx="5667120" cy="8020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BFDBDA-02E5-40E5-9CE3-A2C7389BAA6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738440" y="0"/>
            <a:ext cx="5667120" cy="8020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B99665-1328-432E-AB4C-63DB499EA4A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B8AE99-CE96-4892-BA95-45626091633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505240" y="662040"/>
            <a:ext cx="413352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738440" y="0"/>
            <a:ext cx="5667120" cy="8020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9C22D0-0B08-4F21-B6DC-CC53C558076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38440" y="0"/>
            <a:ext cx="5667120" cy="8020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414175-6024-4CBA-8459-9B4F9A1D9BD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53162C-CCD4-4E7A-86B8-1595A1A9EC1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1BF9EA-E095-4D7F-9DDE-4409D5CE519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546370-11CD-48D2-A85C-1087B0EC7FB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38440" y="0"/>
            <a:ext cx="5667120" cy="8020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AB038B-9CFA-4440-950C-7443F37A363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38440" y="0"/>
            <a:ext cx="5667120" cy="8020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5FC8EB-237F-42DD-9065-DA618E06BC2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38440" y="0"/>
            <a:ext cx="5667120" cy="8020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3A59D0-9C91-4E3B-A08F-DB77FB31A6E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1T22:13:22Z</dcterms:created>
  <dc:creator>Ulla + Oliver</dc:creator>
  <dc:description/>
  <dc:language>en-US</dc:language>
  <cp:lastModifiedBy>Ulla + Oliver</cp:lastModifiedBy>
  <dcterms:modified xsi:type="dcterms:W3CDTF">2012-11-11T22:22:56Z</dcterms:modified>
  <cp:revision>1</cp:revision>
  <dc:subject/>
  <dc:title>Going Green in der Chemieindustrie?? Was ist eine zukunftsfähige Chemieproduktion?</dc:title>
</cp:coreProperties>
</file>